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85B-3E79-4917-98EE-ADDE20FF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7F4-C415-416E-8259-8B6EEFA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EC4-245A-4852-9D65-4F417896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86A-3614-4108-9650-541DAFBE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3DA6-6A29-4D34-A83A-7446C6FC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BC4-ED18-44E4-9C1A-E282996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B8F4-5E19-4324-9D62-491C8EE7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5B89-F821-4A1B-9556-80BAF852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8C13-FD0A-4EBA-8F43-8E6F9D5A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399-36E9-463C-9582-C5BCD5B1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0491-8CAD-455A-86A4-F7FCFE4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58A-4C0E-4AE1-8D7D-7C64DF0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E83-94D6-428C-8936-5D03CFA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2361-5630-47CF-B68C-7C38BF8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9C5-5EE0-485D-BED4-920E133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CE28-F34C-4812-9344-27D9EA7E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5DC-83B3-4362-80B8-422C5361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E9E-647B-4935-BCE6-9E8D37D3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640-F2D3-45BF-97B1-18925001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89B-CF09-4183-B2E3-874F6FA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69D-2615-486B-9328-1990126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9FB-4458-4F19-B9EA-47AC9F6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AB8-39C2-4D62-99C9-E1E9B88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73A-9B63-4B04-B66A-2C2998C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863-1DAF-49CC-8279-03FAA1EC9D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A65A-21A1-49EA-971A-C573AB5482D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69510%5B1%5D.wav" TargetMode="External"/><Relationship Id="rId2" Type="http://schemas.microsoft.com/office/2007/relationships/media" Target="file:///tmp/home/.config/libreoffice/4/user/gallery/MS900069510%5B1%5D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epico Mansio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 Joshua Car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030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incredible y impresionat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3800520" cy="297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 Bano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impresionate y modern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190760" cy="29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 Mans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lujoso y gran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dormitor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boni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epico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743280" cy="2512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2098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modern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22272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5217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4:05Z</dcterms:created>
  <dc:creator>carterjos</dc:creator>
  <dc:description/>
  <dc:language>en-US</dc:language>
  <cp:lastModifiedBy>carterjos</cp:lastModifiedBy>
  <dcterms:modified xsi:type="dcterms:W3CDTF">2012-03-16T13:15:30Z</dcterms:modified>
  <cp:revision>7</cp:revision>
  <dc:subject/>
  <dc:title>Uhh… cool houses</dc:title>
</cp:coreProperties>
</file>